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D22-3F53-4A2D-BFF8-B221B8E9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0E6-1E53-42DF-83DF-097CB556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16E-25BB-445E-AB51-49B6412E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CB6-368E-4680-8E34-D688BDE9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C62A-6003-45DD-A93B-102A773F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7320-A3B6-43DD-A4BB-D77AE777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328E-EAA9-443C-B492-98BC06BE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3531-F4C6-4164-A352-E6B4F604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4C8A-B688-4C9B-9F6A-B382DE25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D26D-2316-43D3-96BA-D529DDA1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DE91-9279-48DC-8D4E-25C26A58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737-790B-4A8A-89A2-60A6550C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93EF-EA97-430E-94D5-FF63352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F694-46A1-4D11-93D2-9C67C639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54BD-89EE-4722-9B00-9C843CEF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4566-71B3-4A21-A26C-9E942838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7E18-7BFE-4D6A-B690-42F4640F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7E68-4B83-4F2D-A78E-654BFADC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F1FA-47FE-4434-A343-2A5C1E8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37CD-681B-4AD4-9294-BE6DA10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5EA9-1750-4F56-81E8-E4BE299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6967-015C-47C0-AA90-3D9D8210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6BE-7C83-414E-B75C-EB410965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6A78-C55E-48E4-B63F-1D000CC7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E1C8-0DA1-45FD-9DF5-369C65C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5C8D-ECF3-41F6-8293-34922D4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4211-68AF-416B-B86F-7C6FB582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6068-66FB-4C6E-9B49-3C7731CE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B891-3624-495E-835C-1D1A9083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6336-4BE8-44E4-9204-3AE18888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0DB8-52BF-41DF-BB98-6A7DCC3D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F8AC-85FD-4CDB-A21B-508F12C8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72B33-A18A-43F3-B976-C8BFD540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DD2-1BA2-437D-981A-DF152891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A776-022D-4A2C-A2F3-379B046C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C896-C66C-4BD6-A90B-3A9A326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DD0B-563E-4193-A5E2-B802DB34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5A02F-95F6-4979-A0D4-27253CE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5052-508E-4819-B4B7-8D12FFF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090D-ABFF-456D-8E5A-0A4F7A8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B663-2DCC-43C4-9A43-F404A300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1409-F408-48E4-AFB3-7F0D1908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D694-06D3-4F67-AF4A-6D633BDB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3EC91-FEA4-44DC-A088-E8644ACF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0C2-4874-47EC-9AA6-1BE2ED01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21F47-E11C-464B-9796-48F84C2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8E691-C505-4F81-8436-B51610D8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C0BEB-E25B-4D05-8C81-5D058089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961EB-0AB4-424D-A1CD-8ABB838E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7AD91-230D-46E4-AE0D-DB82D6C3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AB7C0-8D37-4BFA-B5C7-2A670359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44018-BAC1-4FCE-AFF3-DBAFA62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FCCAF-037C-4D96-AF6C-854363A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E0881-B323-45D0-84F4-33C3C3A4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521DF-805C-43A8-99C2-87D24F78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B4C-E45B-489F-99F7-7E87F9CE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DE427-22E0-466B-88AD-A6C4AA98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037-CB6A-46AB-BAC7-26E8E7C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AAA-DE86-4AE1-84D5-18B5076E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F5D-9120-4C9F-A607-2C52F75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C2B-FCE8-48DB-AD64-C5B960E40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074F-2F83-4E8B-A468-53AECB04473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6625-BB09-487E-866D-2B7A160752E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7898-5872-4374-A1D3-74ECB29C1C3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E163-BB6B-4DB5-A1A2-7D401A8A3BD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9A4-08D5-4383-83D0-B788B8CD19E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303-5CCC-45ED-A4EA-E1127B6E034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1E71-8A86-4E1B-B113-0C0C5EEB33C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4-5plus.ru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сновные этапы исторического развития России 19 века и её отражение в литера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EEE8-A834-4C94-8FC5-F4D46893B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ая прямоугольная выноска 7"/>
          <p:cNvSpPr/>
          <p:nvPr/>
        </p:nvSpPr>
        <p:spPr>
          <a:xfrm>
            <a:off x="2340000" y="2400480"/>
            <a:ext cx="4968720" cy="3168360"/>
          </a:xfrm>
          <a:prstGeom prst="wedgeRoundRectCallout">
            <a:avLst>
              <a:gd name="adj1" fmla="val 22175"/>
              <a:gd name="adj2" fmla="val -6245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юбых общественных перем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опротивл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сему нов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хотели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епостнические пор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15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7A6-2EEA-48AB-ABEC-238B5C7CB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~PP23351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1" descr=""/>
          <p:cNvPicPr/>
          <p:nvPr/>
        </p:nvPicPr>
        <p:blipFill>
          <a:blip r:embed="rId2"/>
          <a:stretch/>
        </p:blipFill>
        <p:spPr>
          <a:xfrm>
            <a:off x="2987640" y="1414440"/>
            <a:ext cx="3151080" cy="6462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8" descr=""/>
          <p:cNvPicPr/>
          <p:nvPr/>
        </p:nvPicPr>
        <p:blipFill>
          <a:blip r:embed="rId3"/>
          <a:stretch/>
        </p:blipFill>
        <p:spPr>
          <a:xfrm>
            <a:off x="3029040" y="5583240"/>
            <a:ext cx="334800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Прямоугольник 3" descr=""/>
          <p:cNvPicPr/>
          <p:nvPr/>
        </p:nvPicPr>
        <p:blipFill>
          <a:blip r:embed="rId1"/>
          <a:stretch/>
        </p:blipFill>
        <p:spPr>
          <a:xfrm>
            <a:off x="3346560" y="1249200"/>
            <a:ext cx="2255760" cy="646200"/>
          </a:xfrm>
          <a:prstGeom prst="rect">
            <a:avLst/>
          </a:prstGeom>
          <a:ln w="0">
            <a:noFill/>
          </a:ln>
        </p:spPr>
      </p:pic>
      <p:sp>
        <p:nvSpPr>
          <p:cNvPr id="243" name="Овал 4"/>
          <p:cNvSpPr/>
          <p:nvPr/>
        </p:nvSpPr>
        <p:spPr>
          <a:xfrm>
            <a:off x="146160" y="1959120"/>
            <a:ext cx="277956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ая прямоугольная выноска 5"/>
          <p:cNvSpPr/>
          <p:nvPr/>
        </p:nvSpPr>
        <p:spPr>
          <a:xfrm>
            <a:off x="47520" y="3135240"/>
            <a:ext cx="300852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треми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освобождению кресть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введению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европейск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Прямоугольник 6" descr=""/>
          <p:cNvPicPr/>
          <p:nvPr/>
        </p:nvPicPr>
        <p:blipFill>
          <a:blip r:embed="rId2"/>
          <a:stretch/>
        </p:blipFill>
        <p:spPr>
          <a:xfrm>
            <a:off x="109440" y="5810400"/>
            <a:ext cx="2944800" cy="645840"/>
          </a:xfrm>
          <a:prstGeom prst="rect">
            <a:avLst/>
          </a:prstGeom>
          <a:ln w="0">
            <a:noFill/>
          </a:ln>
        </p:spPr>
      </p:pic>
      <p:sp>
        <p:nvSpPr>
          <p:cNvPr id="246" name="Овал 7"/>
          <p:cNvSpPr/>
          <p:nvPr/>
        </p:nvSpPr>
        <p:spPr>
          <a:xfrm>
            <a:off x="2925720" y="195912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ая прямоугольная выноска 9"/>
          <p:cNvSpPr/>
          <p:nvPr/>
        </p:nvSpPr>
        <p:spPr>
          <a:xfrm>
            <a:off x="3139920" y="3135240"/>
            <a:ext cx="294336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Отстаи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ерность принципам самодержа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ус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Прямоугольник 10" descr=""/>
          <p:cNvPicPr/>
          <p:nvPr/>
        </p:nvPicPr>
        <p:blipFill>
          <a:blip r:embed="rId3"/>
          <a:stretch/>
        </p:blipFill>
        <p:spPr>
          <a:xfrm>
            <a:off x="3011400" y="5967360"/>
            <a:ext cx="3071880" cy="64620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11"/>
          <p:cNvSpPr/>
          <p:nvPr/>
        </p:nvSpPr>
        <p:spPr>
          <a:xfrm>
            <a:off x="6027840" y="196704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дикал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свет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ая прямоугольная выноска 12"/>
          <p:cNvSpPr/>
          <p:nvPr/>
        </p:nvSpPr>
        <p:spPr>
          <a:xfrm>
            <a:off x="6173640" y="3284640"/>
            <a:ext cx="2943360" cy="266544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тив крепостн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тив самодерж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Прямоугольник 13" descr=""/>
          <p:cNvPicPr/>
          <p:nvPr/>
        </p:nvPicPr>
        <p:blipFill>
          <a:blip r:embed="rId4"/>
          <a:stretch/>
        </p:blipFill>
        <p:spPr>
          <a:xfrm>
            <a:off x="5956200" y="6138720"/>
            <a:ext cx="3243240" cy="6462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4"/>
          <p:cNvSpPr/>
          <p:nvPr/>
        </p:nvSpPr>
        <p:spPr>
          <a:xfrm>
            <a:off x="1423080" y="127800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перед народной револю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ая прямоугольная выноска 7"/>
          <p:cNvSpPr/>
          <p:nvPr/>
        </p:nvSpPr>
        <p:spPr>
          <a:xfrm>
            <a:off x="2050920" y="2205000"/>
            <a:ext cx="5400720" cy="2540160"/>
          </a:xfrm>
          <a:prstGeom prst="wedgeRoundRectCallout">
            <a:avLst>
              <a:gd name="adj1" fmla="val 22175"/>
              <a:gd name="adj2" fmla="val -6245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амодержавия и крепостни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мечтали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обходимости ломки стар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стоев в интересах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15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4657-A824-4F5B-B5BC-6D365E37F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~PP23398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1" descr=""/>
          <p:cNvPicPr/>
          <p:nvPr/>
        </p:nvPicPr>
        <p:blipFill>
          <a:blip r:embed="rId2"/>
          <a:stretch/>
        </p:blipFill>
        <p:spPr>
          <a:xfrm>
            <a:off x="1420920" y="1268280"/>
            <a:ext cx="6291000" cy="64620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6" descr=""/>
          <p:cNvPicPr/>
          <p:nvPr/>
        </p:nvPicPr>
        <p:blipFill>
          <a:blip r:embed="rId3"/>
          <a:stretch/>
        </p:blipFill>
        <p:spPr>
          <a:xfrm>
            <a:off x="2298600" y="4827600"/>
            <a:ext cx="452916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615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бъединяла мысль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ская жизнь нуждается в коренных изменениях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х проводить?</a:t>
            </a:r>
            <a:br>
              <a:rPr sz="28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2"/>
          <p:cNvSpPr/>
          <p:nvPr/>
        </p:nvSpPr>
        <p:spPr>
          <a:xfrm>
            <a:off x="357120" y="357120"/>
            <a:ext cx="349416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волюционеры -   демок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4"/>
          <p:cNvSpPr/>
          <p:nvPr/>
        </p:nvSpPr>
        <p:spPr>
          <a:xfrm>
            <a:off x="5302080" y="334800"/>
            <a:ext cx="2643480" cy="1071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иб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5"/>
          <p:cNvSpPr/>
          <p:nvPr/>
        </p:nvSpPr>
        <p:spPr>
          <a:xfrm>
            <a:off x="357120" y="3714840"/>
            <a:ext cx="349416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волюционеры - демок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7"/>
          <p:cNvSpPr/>
          <p:nvPr/>
        </p:nvSpPr>
        <p:spPr>
          <a:xfrm>
            <a:off x="5435640" y="3638520"/>
            <a:ext cx="292104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иб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ая прямоугольная выноска 8"/>
          <p:cNvSpPr/>
          <p:nvPr/>
        </p:nvSpPr>
        <p:spPr>
          <a:xfrm>
            <a:off x="606600" y="5084640"/>
            <a:ext cx="2714400" cy="1143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асение России только в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ая прямоугольная выноска 10"/>
          <p:cNvSpPr/>
          <p:nvPr/>
        </p:nvSpPr>
        <p:spPr>
          <a:xfrm>
            <a:off x="4956120" y="5251320"/>
            <a:ext cx="3857760" cy="1071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ссии необходимы реформы сверху, без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Выгнутая влево стрелка 11"/>
          <p:cNvSpPr/>
          <p:nvPr/>
        </p:nvSpPr>
        <p:spPr>
          <a:xfrm rot="21165000">
            <a:off x="1184040" y="1496520"/>
            <a:ext cx="731880" cy="797040"/>
          </a:xfrm>
          <a:custGeom>
            <a:avLst/>
            <a:gdLst>
              <a:gd name="textAreaLeft" fmla="*/ 97920 w 731880"/>
              <a:gd name="textAreaRight" fmla="*/ 633960 w 731880"/>
              <a:gd name="textAreaTop" fmla="*/ 130680 h 797040"/>
              <a:gd name="textAreaBottom" fmla="*/ 5749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81" stAng="-5400000" swAng="-5400000"/>
                <a:lnTo>
                  <a:pt x="0" y="12039"/>
                </a:lnTo>
                <a:arcTo wR="21600" hR="7081" stAng="10800000" swAng="-3106532"/>
                <a:lnTo>
                  <a:pt x="16200" y="21375"/>
                </a:lnTo>
                <a:lnTo>
                  <a:pt x="21600" y="16641"/>
                </a:lnTo>
                <a:lnTo>
                  <a:pt x="16200" y="11457"/>
                </a:lnTo>
                <a:lnTo>
                  <a:pt x="16200" y="13937"/>
                </a:lnTo>
                <a:arcTo wR="21600" hR="7081" stAng="7693468" swAng="2687420"/>
                <a:lnTo>
                  <a:pt x="1367" y="9560"/>
                </a:lnTo>
                <a:arcTo wR="21600" hR="7081" stAng="-10380888" swAng="4980888"/>
                <a:close/>
              </a:path>
              <a:path fill="darkenLess" w="21600" h="21600">
                <a:moveTo>
                  <a:pt x="21600" y="0"/>
                </a:moveTo>
                <a:arcTo wR="21600" hR="7081" stAng="-5400000" swAng="-5400000"/>
                <a:lnTo>
                  <a:pt x="0" y="7081"/>
                </a:lnTo>
                <a:arcTo wR="21600" hR="7081" stAng="10800000" swAng="-419112"/>
                <a:lnTo>
                  <a:pt x="1367" y="9560"/>
                </a:lnTo>
                <a:arcTo wR="21600" hR="7081" stAng="-10380888" swAng="498088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Выгнутая вправо стрелка 12"/>
          <p:cNvSpPr/>
          <p:nvPr/>
        </p:nvSpPr>
        <p:spPr>
          <a:xfrm rot="742200">
            <a:off x="7114680" y="1474920"/>
            <a:ext cx="731880" cy="828720"/>
          </a:xfrm>
          <a:custGeom>
            <a:avLst/>
            <a:gdLst>
              <a:gd name="textAreaLeft" fmla="*/ 97920 w 731880"/>
              <a:gd name="textAreaRight" fmla="*/ 633960 w 731880"/>
              <a:gd name="textAreaTop" fmla="*/ 138600 h 828720"/>
              <a:gd name="textAreaBottom" fmla="*/ 5986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24" stAng="-5400000" swAng="5400000"/>
                <a:lnTo>
                  <a:pt x="21600" y="11992"/>
                </a:lnTo>
                <a:arcTo wR="21600" hR="7224" stAng="0" swAng="3139746"/>
                <a:lnTo>
                  <a:pt x="5400" y="21371"/>
                </a:lnTo>
                <a:lnTo>
                  <a:pt x="0" y="16831"/>
                </a:lnTo>
                <a:lnTo>
                  <a:pt x="5400" y="11833"/>
                </a:lnTo>
                <a:lnTo>
                  <a:pt x="5400" y="14218"/>
                </a:lnTo>
                <a:arcTo wR="21600" hR="7224" stAng="3139746" swAng="-2739616"/>
                <a:lnTo>
                  <a:pt x="20390" y="9608"/>
                </a:lnTo>
                <a:arcTo wR="21600" hR="7224" stAng="-400130" swAng="-4999870"/>
                <a:close/>
              </a:path>
              <a:path fill="darkenLess" w="21600" h="21600">
                <a:moveTo>
                  <a:pt x="0" y="0"/>
                </a:moveTo>
                <a:arcTo wR="21600" hR="7224" stAng="-5400000" swAng="5400000"/>
                <a:lnTo>
                  <a:pt x="21600" y="11992"/>
                </a:lnTo>
                <a:arcTo wR="21600" hR="7224" stAng="0" swAng="-400130"/>
                <a:lnTo>
                  <a:pt x="20390" y="9608"/>
                </a:lnTo>
                <a:arcTo wR="21600" hR="7224" stAng="-400130" swAng="-499987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17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4E02-4AF0-4137-A341-797D56F6B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~PP23476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125280" y="1181160"/>
            <a:ext cx="27799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ч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ая прямоугольная выноска 5"/>
          <p:cNvSpPr/>
          <p:nvPr/>
        </p:nvSpPr>
        <p:spPr>
          <a:xfrm>
            <a:off x="47520" y="2392200"/>
            <a:ext cx="300852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читали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русское общество должно соединиться с народною почв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оугольник 6" descr=""/>
          <p:cNvPicPr/>
          <p:nvPr/>
        </p:nvPicPr>
        <p:blipFill>
          <a:blip r:embed="rId1"/>
          <a:stretch/>
        </p:blipFill>
        <p:spPr>
          <a:xfrm>
            <a:off x="-73080" y="5175360"/>
            <a:ext cx="3260880" cy="138420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7"/>
          <p:cNvSpPr/>
          <p:nvPr/>
        </p:nvSpPr>
        <p:spPr>
          <a:xfrm>
            <a:off x="2909880" y="118116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ро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ая прямоугольная выноска 9"/>
          <p:cNvSpPr/>
          <p:nvPr/>
        </p:nvSpPr>
        <p:spPr>
          <a:xfrm>
            <a:off x="3100320" y="2392200"/>
            <a:ext cx="294336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Разви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деи      крестьянской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Прямоугольник 10" descr=""/>
          <p:cNvPicPr/>
          <p:nvPr/>
        </p:nvPicPr>
        <p:blipFill>
          <a:blip r:embed="rId2"/>
          <a:stretch/>
        </p:blipFill>
        <p:spPr>
          <a:xfrm>
            <a:off x="3346560" y="5175360"/>
            <a:ext cx="212076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Овал 11"/>
          <p:cNvSpPr/>
          <p:nvPr/>
        </p:nvSpPr>
        <p:spPr>
          <a:xfrm>
            <a:off x="6039000" y="1181160"/>
            <a:ext cx="309708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лигиоз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илосо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ая прямоугольная выноска 12"/>
          <p:cNvSpPr/>
          <p:nvPr/>
        </p:nvSpPr>
        <p:spPr>
          <a:xfrm>
            <a:off x="6043680" y="2392200"/>
            <a:ext cx="2944800" cy="2664000"/>
          </a:xfrm>
          <a:prstGeom prst="wedgeRoundRectCallout">
            <a:avLst>
              <a:gd name="adj1" fmla="val 11560"/>
              <a:gd name="adj2" fmla="val -6728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Призвание человека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 достижении богоподобного мог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Прямоугольник 13" descr=""/>
          <p:cNvPicPr/>
          <p:nvPr/>
        </p:nvPicPr>
        <p:blipFill>
          <a:blip r:embed="rId3"/>
          <a:stretch/>
        </p:blipFill>
        <p:spPr>
          <a:xfrm>
            <a:off x="6254640" y="5151600"/>
            <a:ext cx="25243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1440" y="20160"/>
            <a:ext cx="840132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2"/>
          <p:cNvSpPr/>
          <p:nvPr/>
        </p:nvSpPr>
        <p:spPr>
          <a:xfrm>
            <a:off x="457200" y="141768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итический реализ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натуральная школ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3"/>
          <p:cNvSpPr/>
          <p:nvPr/>
        </p:nvSpPr>
        <p:spPr>
          <a:xfrm>
            <a:off x="4786200" y="142884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Чистое искус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4"/>
          <p:cNvSpPr/>
          <p:nvPr/>
        </p:nvSpPr>
        <p:spPr>
          <a:xfrm>
            <a:off x="417600" y="2603520"/>
            <a:ext cx="3714840" cy="2346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Период с 1856 года по 1880 год – время величайших достижений русского критического реализма 19 века» (Д.Д.Благ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5"/>
          <p:cNvSpPr/>
          <p:nvPr/>
        </p:nvSpPr>
        <p:spPr>
          <a:xfrm>
            <a:off x="4572000" y="2603520"/>
            <a:ext cx="4394160" cy="340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оретики «чистого искусства» романтизировали возвышенное и прекрасное, противопоставляли «вечное» в искусстве «злободневному», призывали быть далёкими от «житейского волнен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6"/>
          <p:cNvSpPr/>
          <p:nvPr/>
        </p:nvSpPr>
        <p:spPr>
          <a:xfrm>
            <a:off x="149400" y="5468760"/>
            <a:ext cx="460692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исатели демократических убеждений сгруппировались вокруг журнала «Современ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трелка вниз 7"/>
          <p:cNvSpPr/>
          <p:nvPr/>
        </p:nvSpPr>
        <p:spPr>
          <a:xfrm>
            <a:off x="2071800" y="5003640"/>
            <a:ext cx="485640" cy="455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8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BD81-B9C5-4FE2-8510-D002057D9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837040" cy="473580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3"/>
          <p:cNvSpPr/>
          <p:nvPr/>
        </p:nvSpPr>
        <p:spPr>
          <a:xfrm>
            <a:off x="0" y="5643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отрудников журнала "Современник". Сидят слева напра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 Гончаров, И.С. Тургенев, А.В. Дружинин, А.Н. Островс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: Л.Н. Толстой, Д.В. Григоро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4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7751-C719-4004-AD0D-7747F25B6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Заголовок 1"/>
          <p:cNvSpPr/>
          <p:nvPr/>
        </p:nvSpPr>
        <p:spPr>
          <a:xfrm>
            <a:off x="4460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едставители критического ре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9CA2-9414-46E3-8522-CF283580E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Федор Тютчев: женщины, имидж России, Бенкендорф Блог Перемен"/>
          <p:cNvPicPr/>
          <p:nvPr/>
        </p:nvPicPr>
        <p:blipFill>
          <a:blip r:embed="rId1"/>
          <a:stretch/>
        </p:blipFill>
        <p:spPr>
          <a:xfrm>
            <a:off x="272880" y="1919160"/>
            <a:ext cx="2881440" cy="3521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Афанасий Фет"/>
          <p:cNvPicPr/>
          <p:nvPr/>
        </p:nvPicPr>
        <p:blipFill>
          <a:blip r:embed="rId2"/>
          <a:stretch/>
        </p:blipFill>
        <p:spPr>
          <a:xfrm>
            <a:off x="3306600" y="1125360"/>
            <a:ext cx="2530800" cy="3508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Рефераты по литературе и русскому языку &quot; Страница 34 - Xreferat.ru - Банк рефератов, сочинений, докладов, курсовых и дипломных"/>
          <p:cNvPicPr/>
          <p:nvPr/>
        </p:nvPicPr>
        <p:blipFill>
          <a:blip r:embed="rId3"/>
          <a:stretch/>
        </p:blipFill>
        <p:spPr>
          <a:xfrm>
            <a:off x="6029280" y="1989000"/>
            <a:ext cx="2822760" cy="3548160"/>
          </a:xfrm>
          <a:prstGeom prst="rect">
            <a:avLst/>
          </a:prstGeom>
          <a:ln w="0">
            <a:noFill/>
          </a:ln>
        </p:spPr>
      </p:pic>
      <p:sp>
        <p:nvSpPr>
          <p:cNvPr id="29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едставители «чистого искусст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476280" y="546408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3731040" y="463716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. 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6309360" y="553716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сновные проблемы в литературе 19 века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(готовимся к ЕГ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 и з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а  и наказ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и вой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я человека и его без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дрость и легкомысл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и отчу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потизм и раб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 и празд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и душ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а и скепс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дготовка к ЕГЭ по русскому языку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4-5plu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DF7C-AB66-487A-A664-11BC22764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2B12-AE8C-4D89-87A1-5657661BABB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B7EF-B19C-4E10-B344-C4D2CFC0A3F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2017800"/>
            <a:ext cx="9375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23C-8056-41F0-A6BE-A960753DC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994320" y="1341360"/>
            <a:ext cx="74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девятнадцатый, желез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стину жестокий 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65880" y="404640"/>
            <a:ext cx="897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и русского классиц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1149480"/>
            <a:ext cx="3357720" cy="25700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3"/>
          <p:cNvSpPr/>
          <p:nvPr/>
        </p:nvSpPr>
        <p:spPr>
          <a:xfrm>
            <a:off x="383760" y="37148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Канте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3564000" y="1500120"/>
            <a:ext cx="2247840" cy="31622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2708280" y="471492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Тредиа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3"/>
          <a:stretch/>
        </p:blipFill>
        <p:spPr>
          <a:xfrm>
            <a:off x="6167520" y="2000160"/>
            <a:ext cx="2976480" cy="38577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7"/>
          <p:cNvSpPr/>
          <p:nvPr/>
        </p:nvSpPr>
        <p:spPr>
          <a:xfrm>
            <a:off x="6279480" y="5929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-27360" y="1267920"/>
            <a:ext cx="9582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. Ориентация </a:t>
            </a: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на античное искусство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 Простота, стройность, логичность композиции произведени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Общественная, гражданская проблемати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Основные герои – цари, полководцы, государственные деятел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Строгая иерархия жанров, героев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Теория «трёх штилей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Правило «трёх единств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ассицизм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0" y="1341360"/>
            <a:ext cx="9144000" cy="460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сские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ассицисты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947120" y="566892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 И. Фонв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1183680" y="563076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Р. Держа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7" descr="Рисунок6_0"/>
          <p:cNvPicPr/>
          <p:nvPr/>
        </p:nvPicPr>
        <p:blipFill>
          <a:blip r:embed="rId1"/>
          <a:stretch/>
        </p:blipFill>
        <p:spPr>
          <a:xfrm>
            <a:off x="1258920" y="1700280"/>
            <a:ext cx="3005280" cy="3889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8" descr="Рисунок7_0"/>
          <p:cNvPicPr/>
          <p:nvPr/>
        </p:nvPicPr>
        <p:blipFill>
          <a:blip r:embed="rId2"/>
          <a:stretch/>
        </p:blipFill>
        <p:spPr>
          <a:xfrm>
            <a:off x="4932360" y="1700280"/>
            <a:ext cx="299736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8" descr="ричардсон"/>
          <p:cNvPicPr/>
          <p:nvPr/>
        </p:nvPicPr>
        <p:blipFill>
          <a:blip r:embed="rId1"/>
          <a:stretch/>
        </p:blipFill>
        <p:spPr>
          <a:xfrm>
            <a:off x="324000" y="1484280"/>
            <a:ext cx="2743200" cy="3457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9" descr="стерн"/>
          <p:cNvPicPr/>
          <p:nvPr/>
        </p:nvPicPr>
        <p:blipFill>
          <a:blip r:embed="rId2"/>
          <a:stretch/>
        </p:blipFill>
        <p:spPr>
          <a:xfrm>
            <a:off x="3492360" y="1484280"/>
            <a:ext cx="2487600" cy="34574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-324360" y="4971960"/>
            <a:ext cx="4032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гл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эмюэл Ричардсон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4944600"/>
            <a:ext cx="360036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гл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оренс Стерн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326" name="Picture 23" descr="ж-ж"/>
          <p:cNvPicPr/>
          <p:nvPr/>
        </p:nvPicPr>
        <p:blipFill>
          <a:blip r:embed="rId3"/>
          <a:stretch/>
        </p:blipFill>
        <p:spPr>
          <a:xfrm>
            <a:off x="6381720" y="1484280"/>
            <a:ext cx="2654280" cy="34574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6"/>
          <p:cNvSpPr/>
          <p:nvPr/>
        </p:nvSpPr>
        <p:spPr>
          <a:xfrm>
            <a:off x="6012000" y="4946760"/>
            <a:ext cx="36003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 Жак Рус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атели сентиментализм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9"/>
          <p:cNvSpPr/>
          <p:nvPr/>
        </p:nvSpPr>
        <p:spPr>
          <a:xfrm>
            <a:off x="5017680" y="558972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М. Карам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6064200" y="491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489320" y="566100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Н. Радищ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7" descr="Рисунок8_0"/>
          <p:cNvPicPr/>
          <p:nvPr/>
        </p:nvPicPr>
        <p:blipFill>
          <a:blip r:embed="rId1"/>
          <a:stretch/>
        </p:blipFill>
        <p:spPr>
          <a:xfrm>
            <a:off x="1116000" y="1628640"/>
            <a:ext cx="3116160" cy="396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8" descr="Рисунок9_0"/>
          <p:cNvPicPr/>
          <p:nvPr/>
        </p:nvPicPr>
        <p:blipFill>
          <a:blip r:embed="rId2"/>
          <a:stretch/>
        </p:blipFill>
        <p:spPr>
          <a:xfrm>
            <a:off x="5003640" y="1628640"/>
            <a:ext cx="3052800" cy="39610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сские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нтименталисты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нтиментализ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4288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. Изображение человеческой психологи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 Действия и поступки героев определяются с точки зрения чувств, преувеличенная чувствительность героев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 Идеализация действительности, субъективное изображение мир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 В центре изображения – чувства, природ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 Представители низших сословий наделяются богатым духовным миром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 Идеалом является нравственная чистота, не испорченность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 Значимость гражданской проблематики содержания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1741-6804-4972-802C-071240AB054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F213-1A92-493F-9B8C-4E381F5F6C9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0" y="1341360"/>
            <a:ext cx="9144000" cy="46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952920" y="701640"/>
            <a:ext cx="71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и романтиз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413720" y="1728720"/>
            <a:ext cx="399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Людвиг 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братья Шлег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Шелл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авая фигурная скобка 3"/>
          <p:cNvSpPr/>
          <p:nvPr/>
        </p:nvSpPr>
        <p:spPr>
          <a:xfrm>
            <a:off x="5167440" y="1703520"/>
            <a:ext cx="571320" cy="192852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928520"/>
              <a:gd name="textAreaBottom" fmla="*/ 191376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"/>
                  <a:pt x="10800" y="533"/>
                </a:cubicBezTo>
                <a:lnTo>
                  <a:pt x="10800" y="10267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7"/>
                  <a:pt x="10800" y="11333"/>
                </a:cubicBezTo>
                <a:lnTo>
                  <a:pt x="10800" y="21067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5720040" y="2344680"/>
            <a:ext cx="26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1973520" y="4286160"/>
            <a:ext cx="63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В. А. Жуковски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.Необычность характеров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Трагический поединок личности и судьбы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Герой – бунтарь, одиночка, мечтатель,сильная личность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Интерес ко всему экзотическому (пейзаж, события, люди), сильному, яркому, возвышенном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Смешение высокого и низкого, трагического и комического, обыденного и необычного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Культ свободы: стремление личности к абсолютной свободе, к идеалу, к совершенств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 Красочный язык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0E0-59CA-4987-A166-D4230C03BAD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4545-D234-452B-9FBC-709C31E8761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9D6F-37F2-4DCA-9AA7-9B0112625FF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B1C-D7FF-4DD9-BFB7-FE5FF1E2CF6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4572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пушкин а.с. портрет"/>
          <p:cNvPicPr/>
          <p:nvPr/>
        </p:nvPicPr>
        <p:blipFill>
          <a:blip r:embed="rId1"/>
          <a:srcRect l="8319" t="0" r="3653" b="12784"/>
          <a:stretch/>
        </p:blipFill>
        <p:spPr>
          <a:xfrm>
            <a:off x="0" y="836640"/>
            <a:ext cx="1940040" cy="2592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ПОЭТ, ХУДОЖНИК, МУЗЫКАНТ ЛЕРМОНТОВ М. Ю."/>
          <p:cNvPicPr/>
          <p:nvPr/>
        </p:nvPicPr>
        <p:blipFill>
          <a:blip r:embed="rId2"/>
          <a:srcRect l="0" t="0" r="0" b="20268"/>
          <a:stretch/>
        </p:blipFill>
        <p:spPr>
          <a:xfrm>
            <a:off x="1763640" y="1258920"/>
            <a:ext cx="2060640" cy="2411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ГОГОЛЬ Н. В. ЛЮБОВЬ К КНИГЕ"/>
          <p:cNvPicPr/>
          <p:nvPr/>
        </p:nvPicPr>
        <p:blipFill>
          <a:blip r:embed="rId3"/>
          <a:srcRect l="0" t="0" r="0" b="17025"/>
          <a:stretch/>
        </p:blipFill>
        <p:spPr>
          <a:xfrm>
            <a:off x="276120" y="3573360"/>
            <a:ext cx="1893960" cy="244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Иван Александрович Гончаров"/>
          <p:cNvPicPr/>
          <p:nvPr/>
        </p:nvPicPr>
        <p:blipFill>
          <a:blip r:embed="rId4"/>
          <a:srcRect l="0" t="0" r="0" b="20268"/>
          <a:stretch/>
        </p:blipFill>
        <p:spPr>
          <a:xfrm>
            <a:off x="5435640" y="1344600"/>
            <a:ext cx="1958760" cy="2411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ДОСТОЕВСКИЙ ФЕДОР МИХАЙЛОВИЧ"/>
          <p:cNvPicPr/>
          <p:nvPr/>
        </p:nvPicPr>
        <p:blipFill>
          <a:blip r:embed="rId5"/>
          <a:srcRect l="0" t="0" r="0" b="17743"/>
          <a:stretch/>
        </p:blipFill>
        <p:spPr>
          <a:xfrm>
            <a:off x="7307280" y="888840"/>
            <a:ext cx="1801800" cy="2487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НЕКРАСОВ Н.А. ПОЭТ И НАРОД"/>
          <p:cNvPicPr/>
          <p:nvPr/>
        </p:nvPicPr>
        <p:blipFill>
          <a:blip r:embed="rId6"/>
          <a:stretch/>
        </p:blipFill>
        <p:spPr>
          <a:xfrm>
            <a:off x="3824280" y="3573360"/>
            <a:ext cx="1752480" cy="2292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 МИХАИЛ ЕВГРАФОВИЧ САЛТЫКОВ - ЩЕДРИН"/>
          <p:cNvPicPr/>
          <p:nvPr/>
        </p:nvPicPr>
        <p:blipFill>
          <a:blip r:embed="rId7"/>
          <a:srcRect l="0" t="4290" r="0" b="15629"/>
          <a:stretch/>
        </p:blipFill>
        <p:spPr>
          <a:xfrm>
            <a:off x="7291440" y="3376440"/>
            <a:ext cx="1806480" cy="235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ЛЕВ ТОЛСТОЙ И ДЕТИ портрет"/>
          <p:cNvPicPr/>
          <p:nvPr/>
        </p:nvPicPr>
        <p:blipFill>
          <a:blip r:embed="rId8"/>
          <a:srcRect l="0" t="0" r="0" b="13885"/>
          <a:stretch/>
        </p:blipFill>
        <p:spPr>
          <a:xfrm>
            <a:off x="5450040" y="4029120"/>
            <a:ext cx="1866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1F71-9742-4087-9C71-C7C86E4F5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Заголовок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события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0040" y="1428840"/>
          <a:ext cx="8128080" cy="236052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  <a:gridCol w="2710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ий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честве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ис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86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Box 6"/>
          <p:cNvSpPr/>
          <p:nvPr/>
        </p:nvSpPr>
        <p:spPr>
          <a:xfrm>
            <a:off x="1134000" y="295596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ление Александ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6030000" y="2935440"/>
            <a:ext cx="19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1130400" y="5575320"/>
            <a:ext cx="73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25 года – 30 лет молчания (до 1855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события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0920" y="784080"/>
          <a:ext cx="8642160" cy="5159520"/>
        </p:xfrm>
        <a:graphic>
          <a:graphicData uri="http://schemas.openxmlformats.org/drawingml/2006/table">
            <a:tbl>
              <a:tblPr/>
              <a:tblGrid>
                <a:gridCol w="2511360"/>
                <a:gridCol w="2111400"/>
                <a:gridCol w="2111400"/>
                <a:gridCol w="1908000"/>
              </a:tblGrid>
              <a:tr h="68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3-18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мская    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а крепостного    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ель 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равления Никол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я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лух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Номер слайда 4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5F0C-37D4-4618-8E01-1112A9F14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2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4DA8-AB3F-42F9-A3BA-2BC5C5A69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~PP13242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478080" y="1268280"/>
            <a:ext cx="8230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безумной радости волну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обилие таланто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ённых Россией 19 ве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поражающее разнообрази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6D6C-D1F9-4D19-9386-9DDAE477B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143000"/>
          <a:ext cx="9036000" cy="4664160"/>
        </p:xfrm>
        <a:graphic>
          <a:graphicData uri="http://schemas.openxmlformats.org/drawingml/2006/table">
            <a:tbl>
              <a:tblPr/>
              <a:tblGrid>
                <a:gridCol w="1403280"/>
                <a:gridCol w="4896000"/>
                <a:gridCol w="2736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ьба классициз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иментализ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тизма, раннего реа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ада, поэ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эл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6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цвет романтизма, переход от романтизма к реализму и социальной сат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йная борьба славянофилов и западников, расцвет «натуральной школы», противостояние гоголевской школы и поэтов - лир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й очерк, социальная повесть, психологический роман, поэ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BAD2-4ECE-4EBF-9D9F-BD8411228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-12600" y="1341360"/>
          <a:ext cx="9037440" cy="3840120"/>
        </p:xfrm>
        <a:graphic>
          <a:graphicData uri="http://schemas.openxmlformats.org/drawingml/2006/table">
            <a:tbl>
              <a:tblPr/>
              <a:tblGrid>
                <a:gridCol w="1403280"/>
                <a:gridCol w="4897440"/>
                <a:gridCol w="273672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борство либералов и демократов, расцвет демократической журналисти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темы, проблемы и герои в литерату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кратическая повесть, роман, литературная кри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9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питализма, активизация тайных революционных организаций, идеализация крестьянской жизни, развитие реа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к, рассказ, ск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085-5CC9-4DB4-8464-C37765DDE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163520"/>
          <a:ext cx="9036000" cy="4572000"/>
        </p:xfrm>
        <a:graphic>
          <a:graphicData uri="http://schemas.openxmlformats.org/drawingml/2006/table">
            <a:tbl>
              <a:tblPr/>
              <a:tblGrid>
                <a:gridCol w="1403280"/>
                <a:gridCol w="4824360"/>
                <a:gridCol w="2808360"/>
              </a:tblGrid>
              <a:tr h="265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2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ие реакционной политики царизма, рост пролетариата, пропаганда идей марксизма, обновление тематики в литературе (изображение «среднего человека», интеллигента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,  повесть, ро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5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питализма, противостояние реалистической и декадентской литературы, зарождение пролетарской лит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, публицистические жан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темы русской литературы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5712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5 – 1855 – основной вопрос: «Кто мы? Что с нами происходи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 «Евгений Онегин», М. Ю. Лермонтов «Герой нашего времени», Н. В. Гоголь «Мёртвые ду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5 – 1861 – основной вопрос: «Кто винова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С. Тургенев «Записки охотника», И. А. Гончаров «Обломов», М. Е .Салтыков-Щедрин «Губернские очер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1 – 1881 – основной вопрос: «Что 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Г. Чернышевский «Что делать?», Ф. М. Достоевский «Преступление и наказание», Л. Н. Толстой «Война и м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1C5F-02ED-4D94-A4BB-FC3BCE42E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~PP23335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19:47Z</dcterms:created>
  <dc:creator>_Wizard_</dc:creator>
  <dc:description/>
  <dc:language>en-US</dc:language>
  <cp:lastModifiedBy>Люда</cp:lastModifiedBy>
  <dcterms:modified xsi:type="dcterms:W3CDTF">2014-09-05T17:14:12Z</dcterms:modified>
  <cp:revision>92</cp:revision>
  <dc:subject/>
  <dc:title>Слайд 1</dc:title>
</cp:coreProperties>
</file>